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CF1-C635-4768-A52B-DD4BF743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05E-67AB-49B1-95EC-1B85CCEC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034-266A-4406-94C1-C95C1F2D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2F3-4ED1-434D-8CA4-84EBF231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D534-7A0A-4DE9-A1B9-87EB11C9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654-B7DE-4BC9-AA06-359A12E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2C3D-4935-4F40-80E0-9F83CF14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39D0-F192-40D4-BACC-8F414C15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B67-C61D-4D12-B760-B386210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CEC0-A7A8-4712-BA65-0E9A952D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9544-14BC-49DB-B3F0-4A5B7B75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A58-ADE8-40D9-B240-4EFE0D5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39C2-B40F-4AE1-A18B-C094BD9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7EF-D8FE-4BFA-A322-31623D2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DF45-C65B-45B9-940A-C6D2A5D7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66A-03FB-4B5D-BDFD-54027161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654A-098A-4F77-83BC-BAEC082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97A-50F6-42E9-BEC1-0EF3C55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90D-50CE-4223-92FD-EF5006D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FCC-5ED1-4A30-8588-8E02CF9B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14B-690D-49D3-999F-88848ABB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5E2-FDED-41EF-A13E-658AD33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9F1-7A13-4943-99F8-10668BC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256-4E69-4868-95D5-F623F6F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DED1-9DE7-4730-A854-FEB2840D2935}" type="slidenum">
              <a:rPr b="1" lang="pt-BR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9FF0-9931-419C-85CC-22196058C9A5}" type="slidenum">
              <a:rPr b="1" lang="pt-BR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lanejando uma atividade usando mídias digitai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OFESORAS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: Elisabete e Maria do Carm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ÚBLICO ALVO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: 2º ano C do Ensino Fundamental da E. M. Brincando de Aprend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427280" y="4723920"/>
            <a:ext cx="4500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Book Antiqua"/>
              </a:rPr>
              <a:t>Pesquisa na Internet : Hino da Independência do Brasil comemorando a semana 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Book Antiqua"/>
              </a:rPr>
              <a:t>Pátria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Arial Black"/>
              </a:rPr>
              <a:t>.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5840" y="2491920"/>
            <a:ext cx="78328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SCIPLINAS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: Língua Portuguesa, História e Ar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URAÇÃO: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1 sem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81640" y="310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9840" y="3246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DC12047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6600" y="2820960"/>
            <a:ext cx="73897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fletir sobre o que é ser patriota e o amor a Pátria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var os alunos a sala de informática para fazer a pesquis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ressão do hino e leitur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erpretação textu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to (entonação do Hino da Independência do Brasil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ividades Gramaticais e ortográficas referente o texto do hi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ursos de Mídias e out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n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resso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pel sulfi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arelho de som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áquina digit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D ( do Hino da Independênc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ndeira Nacion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crof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REFERÊNCI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rasil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escola.com/.../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inodaindependencia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ww.suapesquisa.com/.../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ino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ndependencia_do_brasil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ttp://pt.wikipedia.org/wiki/Hino_da_Independ%C3%AAncia_do_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ww.youtub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ttp://superdownloads.uol.com.br/download/37/hino-independencia-brasil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ttp://letras.terra.com.br/evaristo-ferreira-da-veiga/716500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 Antiqua"/>
              </a:rPr>
              <a:t>Culmiâ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Book Antiqua"/>
              </a:rPr>
              <a:t>Concentração Cív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Book Antiqua"/>
              </a:rPr>
              <a:t>Apresentações diversas sobre o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Book Antiqua"/>
              </a:rPr>
              <a:t>Dança, Jogral, Poesia, Exposição de Textos e de Cartazes com ilustração sobre o Hino da Independência d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AVALI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uve Participação, interesse, avanços, e dificuldades ao navegar e ao manusear o mouse porque os alunos ainda estão aprendendo manusear esses instrumen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9480" y="307728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549520"/>
            <a:ext cx="4968720" cy="4087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2772000" cy="207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4:08:00Z</dcterms:created>
  <dc:creator>Carmen</dc:creator>
  <dc:description/>
  <dc:language>en-US</dc:language>
  <cp:lastModifiedBy>Carmen</cp:lastModifiedBy>
  <dcterms:modified xsi:type="dcterms:W3CDTF">2006-03-27T15:15:23Z</dcterms:modified>
  <cp:revision>4</cp:revision>
  <dc:subject/>
  <dc:title>Planejando uma atividade usando mídias digitais PROFESORAS: Elisabete e Maria do Carmo  PÚBLICO ALVO: 2º ano C do Ensino Fundamental da E. M. Brincando de Aprender</dc:title>
</cp:coreProperties>
</file>